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F2FE-DF62-45FD-B43D-DC168DD25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20B8-5C6F-4BDF-BA52-7276FE801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6E0A-53F2-4200-8236-0CB8C5898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BCB9-3975-4B35-AC5B-2E70728EB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449C-B2A5-48B3-83A1-97F6DA6A3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94A7-DB7A-4692-9615-6263902EE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62FA-08E3-4F9F-A7FA-00FD24B3A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36E7-383E-408C-8E99-18B48EDB8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C3AF-3BE9-454E-9741-D6461BF53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CD54-F6A0-402D-A69C-3E3A60E2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87B5-CE90-43B4-ABE6-CC5503DD0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CF25-E169-4F25-9BDF-DB58E6EF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11252-9102-4F7A-AC0B-1766D780B3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flexive Verb Quickst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does each family member do in the morning? Write a sentence about what each person doe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: Carlos/ champ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rlos se lava la cabeza con el champ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/ toal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guel/ jab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s niños/ pasta de dien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ú/ secador de pe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s abuelos/ despertador (alarm clock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puesta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Yo/ toall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Me seco el cuerpo con la toall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iguel/ jab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Miguel se lava con el jabó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os niños/ pasta de dient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Los niños se lavan los dientes con la pasta de dien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ú/ secador de pel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Te  secas el pelo con el secador de pel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os abuelos/ despertador (alarm clock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Los abuelos se despiertan con el despertado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" dur="20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19:35:38Z</dcterms:created>
  <dc:creator>Prine, Stephanie</dc:creator>
  <dc:description/>
  <dc:language>en-US</dc:language>
  <cp:lastModifiedBy>Prine, Stephanie</cp:lastModifiedBy>
  <dcterms:modified xsi:type="dcterms:W3CDTF">2012-09-18T19:49:38Z</dcterms:modified>
  <cp:revision>2</cp:revision>
  <dc:subject/>
  <dc:title>Reflexive Verb Quickstart</dc:title>
</cp:coreProperties>
</file>